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EE2A-989D-4516-AB4F-7955BEDC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B38B-5F8E-4BFB-AC52-81684F64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FB31-4B00-4E92-9E73-B6C544CB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B22B-CEE1-443D-AD94-EDDEF90D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155F-8CEB-4A15-ADAE-2F1E6E65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4B9B-007C-4950-9722-EEAAFA68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1A93-96DD-4CC6-A9B8-254F7BBE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0439-1A33-49D9-8BEC-AD5E5590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EEAC-3392-4816-9E5B-8CE4AC54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16F4-0843-4D87-9791-EE9111F1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5C1D-0163-479D-B1E1-37C5565D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FDB1-1B0F-4E9F-84D5-3A7F36FD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8FAC-AFA3-4B40-B9BA-8C0BD86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A97F-F283-4493-8421-FCBE6A7A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9E4E-F3FC-448B-8753-E13A4696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F1B9-22EE-40FE-9535-14875FC8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5D4F-015B-4260-994F-E4EE7E63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F916-3300-4A72-85B7-C0BE8E29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9D3A-2D4C-4E75-A521-2A8C5A8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0644-9A54-421A-A80B-9C8B9033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3F1A-C74C-4309-8621-B3E36BE1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67AC-1BDE-4422-9D98-A1C7A1A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CB18-4826-4964-B19E-A655BB62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4155-F102-4FBB-ADC1-A5EF436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B67B-E7CD-4596-93C2-9B2C4B913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036A-8BE0-4DB7-9811-3CDFE8F2D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ype of monoalphabetic cipher is called a multiliteral ci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other weak monoalphabetic cipher that is worth examining because it tries to do something unique - it replaces each plaintext letter with a pair of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iphertext is twice as large as the plaintext and looks very st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7FAB-42B4-49EB-B631-C33C42CF7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literial Cipher key is a 5 x 5 matri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ve columns and the five rows are each labeled by the same 5 letter keywor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yword cannot have any repeating le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phabet is written in the matri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x has only 25 slots but the alphabet has 26 letters, so the letters “i” and “j” occupy the sam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keyword is “codes” then the key matrix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000" y="473400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 g h i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m n 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 r s t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 w x 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6800" y="4419720"/>
            <a:ext cx="2139480" cy="2275920"/>
            <a:chOff x="2566800" y="4419720"/>
            <a:chExt cx="2139480" cy="2275920"/>
          </a:xfrm>
        </p:grpSpPr>
        <p:sp>
          <p:nvSpPr>
            <p:cNvPr id="119" name=""/>
            <p:cNvSpPr/>
            <p:nvPr/>
          </p:nvSpPr>
          <p:spPr>
            <a:xfrm>
              <a:off x="2879640" y="4419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 o d e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616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4840" y="4809960"/>
              <a:ext cx="0" cy="18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6160" y="509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6160" y="54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6800" y="5829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76160" y="620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4840" y="4800240"/>
              <a:ext cx="172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889600" y="485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 e  l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19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 cs dc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36880" y="483084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48308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53355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AD17-1C12-40B7-B26F-1609515D61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7T02:47:38Z</dcterms:modified>
  <cp:revision>48</cp:revision>
  <dc:subject/>
  <dc:title>CAP Cryptographic Analysis Program</dc:title>
</cp:coreProperties>
</file>